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F29-BB5E-4AAC-B9DF-F1D49157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23F-FB42-4CBF-B69A-0AEA0C01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CFB-E43F-4D92-B103-A8D16697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1F6-DCC4-4935-83AA-7240DD14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F4E-E3DB-4B68-A2C6-66149516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16A6-DCD6-470F-ACEF-444E186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309-6AF2-40F6-AC8A-7BAB2C39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29E-298B-4712-9E21-648D2BCA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11B-5C80-41C3-ABB5-D28A498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315-8D93-4336-9A6F-89D08C8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B47-C963-4839-89E9-F52B1BAC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B0E-3A66-4F4D-B9B9-444A57D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034E-DDAD-469E-BD84-8CD4334C1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1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Focus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7336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pecific Schedules (looking at one shot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1) Movement Analysis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2) Scatter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pecific Sched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773360"/>
            <a:ext cx="845820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en describing each we mu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ive 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how it looks (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how it is carrie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scribe the environment it is carried ou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205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xplain why these tests were appropriate (4)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Why are these test appropri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05000"/>
            <a:ext cx="845820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Relevant to badmin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roduce factu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rovide statistics (scatter grap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pecific to your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be re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be kept as a perman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an repeat and compar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1 and 2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Refer to the help sheets you have been issu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5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815328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the end of this lesson you should all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and explain the cycle of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how we gain initial data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scribe how we gain focused data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plain why these methods a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00200"/>
            <a:ext cx="89154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MUST pass this in order to sit the final ex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NAB is split into 4 part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will do parts 1 and 4 as home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ou do parts 2 and 3 under exam conditions in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457200"/>
            <a:ext cx="4114800" cy="76212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580560" y="601992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NAB Par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413000"/>
            <a:ext cx="84582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s relate to Stages 1,2 and 3 of Cycle of Analy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t relates to observing and analysing you performance to identify strengths and weaknesses and determine development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scribe the methods you used to identify your performance strengths and weakness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 this question you must describe initial and focused data you hav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Initi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708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ation of Quality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sideration of Quality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7336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p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ive 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how it looks (diagr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how it is car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scribe the environment it is carried ou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17T16:54:25Z</dcterms:modified>
  <cp:revision>20</cp:revision>
  <dc:subject/>
  <dc:title>Intermediate PE</dc:title>
</cp:coreProperties>
</file>